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5B8-DEC8-4A61-9C49-D492F4D4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1E3-7346-4611-A6E3-F75EF9E0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55A-63D5-4BCD-A7E5-C95D316D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887-65C8-4396-961B-8463C259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252B-5E95-4E9C-87B6-3A260E84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A3A9-DB4D-4EE2-8887-BD2645A6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9727-895E-4288-800E-3BC04922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02D4-0828-4573-B1E7-72A30CBF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F689-F2C1-4B0C-B910-27AA7E3D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423A-2333-42E2-ABA7-6DF8BA0B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B302-7083-4ECB-98CF-BE3F5176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948-0E1F-4978-AA8E-3607D1CB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033D-DF29-4E6D-8403-7B3EAC52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856C-2EA9-432B-8E49-F7696205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77B1-6D70-4A71-A4BF-0BBFA0A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F551-6494-4F63-B8C1-A074D130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FA23-889B-48CF-8A5A-3EAF83A4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E08-3922-46FE-B358-1A9B3BBA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986-2576-4A7C-AB42-A0F52CBF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DEA-8164-4E47-B6CA-C480EC14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CDC-E724-410E-931E-E8CD0DCA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003-ED1A-4BE4-8213-17925713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5A2-6F67-4488-B723-A16125AD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D3A-8E0A-4865-B0A6-AA4EBACA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3D98-48B9-492F-AD84-63EC779A0A34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DFE7-18EA-4A7D-A603-EB05872D165D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Movie/6-12/Session 2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title animations, fonts, and transitions have enhanced your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observed how title sequences, and transitions can add to or subtract from the overall impact of a movi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we customize our movie using titles, transitions, and video effect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we import digital images into i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ok and feel of our movie can be affected by the title sequence and transitions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lesson will focus on the following skill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opening and closing title sequenc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still images into iMovi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dding transitions between scen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image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digital camer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 (www.pics4learning.org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canning a digital picture into the computer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titles and transitions enhance a 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pictures into iMovi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a title seque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transition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lesson 2 for specific dire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Take the next 30 minutes to import still images into iMovie. Add titles and transitions to your movies. After 30 minutes we will come back together and shar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Connect the digital still camera to the computer (if available)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Download and save the sample digital pictures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digital pictures into iMovie and include two pictures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titles and transition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06T17:07:52Z</dcterms:modified>
  <cp:revision>30</cp:revision>
  <dc:subject/>
  <dc:title>Workshop Title</dc:title>
</cp:coreProperties>
</file>